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5858-3316-4F16-8619-5B8736D02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8B11-97FB-4C37-931B-4DA930CFB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AB96-30F0-45B7-9E6D-2777681F8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EC0-CB58-4679-AED0-2C3CCCC1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7E6-44D2-436C-A8BE-04FA641B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F61-9BF5-4F77-B0D0-F4611212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EE0-5ECA-4A95-8FC9-895B771D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1E7-16E7-4F3A-B616-1B2F3AB8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229-41FF-46FE-865B-94CF7EF0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507-F48E-42B6-80D7-5A0310C0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61E-3FE4-4999-86A5-77021EBC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44E-687D-4BBC-B451-24E885E5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AD7-59BC-4684-B5B9-05C622F9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F3D-A792-40EE-A1CB-A41E328A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F68-1B14-4581-B9B5-4E8F919C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32F0-9250-42AF-B59E-9AFEB4CD3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Switches - Catalyst Digital Building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DB-8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462040" y="2940120"/>
            <a:ext cx="42199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DB-8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462040" y="2940120"/>
            <a:ext cx="42199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DB-8U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462040" y="2940120"/>
            <a:ext cx="42199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DB-8U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462040" y="2940120"/>
            <a:ext cx="42199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DB-M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344680" y="2664000"/>
            <a:ext cx="44546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DB-RCKMNT-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1512720"/>
            <a:ext cx="9144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 Klapel</cp:lastModifiedBy>
  <dcterms:modified xsi:type="dcterms:W3CDTF">2016-12-16T23:08:23Z</dcterms:modified>
  <cp:revision>5</cp:revision>
  <dc:subject/>
  <dc:title>Slide 1</dc:title>
</cp:coreProperties>
</file>